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2.png" ContentType="image/png"/>
  <Override PartName="/ppt/media/image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.png" ContentType="image/png"/>
  <Override PartName="/ppt/media/click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5B2E-EC39-4F9C-8AA8-EF1D0717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AF9C-525A-466F-998C-873BB0A4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83B-5549-4608-ABCD-5E88EDB3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9352-5DA0-4962-A272-CAC8BCD3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69C3-BF6D-49C2-BD8D-DF2ACF3B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AA9F-863A-4DF7-A257-27B00B01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0FB5-0318-4932-A01C-764C6955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0D96-5F8E-4539-959D-A5BF6111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3C25-E7D3-4956-BAAD-AAFB7D27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6A2E-E337-4BE1-8751-243517C4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436A-DC07-4643-AF50-78EA55ED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AFBD-4F7F-4135-ADD6-74DC17BA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6722-5BC2-43C8-9602-D54C48F5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199B-85DE-4F44-87DA-F13C880F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460E-3269-4DE7-8C4B-2860194B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FC64-4784-44EB-AFB1-9A88B724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075E-F669-42FD-97A7-6FDD9ABD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F89-9A5D-4444-A216-FFF80A1A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CBC-8F7D-4FDA-A3C1-88AF1B11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62BD-6677-4A8B-A994-7CA0E842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3549-C5E3-4546-BC36-580E5776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487-7099-4E6F-BCC1-EF2A9540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770-C559-4805-B685-FEA88142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FA7-8999-4C48-AB5F-D737FC52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3214-9B9F-448B-8927-1E2BD0CC50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AD0F-3DB5-4545-BA02-FFE02990E2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7.png"/><Relationship Id="rId4" Type="http://schemas.openxmlformats.org/officeDocument/2006/relationships/image" Target="../media/image18.pn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95280" y="2971440"/>
            <a:ext cx="701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Программные продукты для финансовых органов и бюджетных учрежде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835200"/>
            <a:ext cx="7338960" cy="928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3520" y="2438280"/>
            <a:ext cx="807696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Интеграция с модулем «Кадры-КС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404640"/>
            <a:ext cx="742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сновные функци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Зарплата-К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3048120"/>
            <a:ext cx="3657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91440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5181480"/>
            <a:ext cx="6019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формление приказов на сотрудников можно производить, как в подсистеме «Кадры-КС», так и в подсистеме «Зарплата-КС». Начисление и расчет по приказам производится в подсистеме «Зарплата-КС», после утверждения прика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41911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72200" y="58672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Зарплата-КС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2133720"/>
            <a:ext cx="243864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-позволяет избежать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двойного в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данных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о     сотрудник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-ускор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документооборо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между отдел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кадров и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бухгалтери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- повышение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эффективности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труда расчетчи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заработной платы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48769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Кадры-КС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62252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324480" y="1752480"/>
            <a:ext cx="2557440" cy="1706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943600" y="3505320"/>
            <a:ext cx="3048120" cy="2400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52280" y="2133720"/>
            <a:ext cx="3733920" cy="274320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5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676520" y="1828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Печать расчетных лис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1258920" y="404640"/>
            <a:ext cx="742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сновные функци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Зарплата-К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3048120"/>
            <a:ext cx="3657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91440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3400" y="41911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429000" y="2514600"/>
            <a:ext cx="5257800" cy="3154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251460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Печать расчетных листов позволяет произвести контроль за начисл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заработной платы, премий и надбавок, отчислений в пенсионные фонды, уплаты налогов и всеми   другими операциями по заработной плат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62252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3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038120" y="167616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Отче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404640"/>
            <a:ext cx="742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сновные функци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Зарплата-К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3048120"/>
            <a:ext cx="3657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91440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41911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2590920"/>
            <a:ext cx="304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162252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1120" y="2057400"/>
            <a:ext cx="449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ормирование отчетов по начислениям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ормирование отчетов для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ИФНС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и Пенсионного фонда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ормирование отчетов по внештатным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сотрудникам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3352680" cy="4419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343400" y="3581280"/>
            <a:ext cx="4191120" cy="24685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4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Реквиз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6350040" y="5522760"/>
            <a:ext cx="231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62252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514600" y="2286000"/>
            <a:ext cx="3924360" cy="28576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3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Зарплата-КС</a:t>
            </a:r>
            <a:br>
              <a:rPr sz="4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дсистема «Бюджет-КС» для автоматизации административно-хозяйственной деятельности бюджетных учрежд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2971440"/>
            <a:ext cx="7010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сис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 предназначена для автоматизации процесса табельного учета, начисления заработной платы, расчета отчислений в социальные фонд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 формирования всех необходимых отчетов и док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43828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47360" y="1825560"/>
            <a:ext cx="80010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Расчет всех видов постоянных и разовых начислений с учетом районных и северных коэффициентов, расчет оплаты по больничным листам, расчет отпускных и командировочных, расчет постоянных удержаний из заработной платы, а также расчет отчислений в социальные фонды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Тарификац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Расчет по договорам гражданско-правового характер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Персонифицированный уче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Формирование всех необходимых отчетов и документов, выгрузка отчетности для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ИФНС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и ПФРФ в электронные файлы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полная интеграция с модулем "Кадры", что позволяет избежать двойного ввода данных о сотрудниках, ускорить документооборот между отделом кадров и бухгалтерией, и повысить эффективность труда расчетчика зарпла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404640"/>
            <a:ext cx="742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сновные функци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Зарплата-К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62252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8" name="click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58920" y="404640"/>
            <a:ext cx="742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сновные функци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Зарплата-К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3048120"/>
            <a:ext cx="3657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598760"/>
            <a:ext cx="7848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Программа позволяет выполнить  различны виды начисл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62252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3116160"/>
            <a:ext cx="4348080" cy="2590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3560" y="1944720"/>
            <a:ext cx="3352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Начисления по табел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массовый расч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начисления по отдел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начисления по сотрудни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5661000"/>
            <a:ext cx="662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исления по табелю выполняются на основе данных по окладу, тарифу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работанному времени. После начисления производится расчет сум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4437000"/>
            <a:ext cx="3352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2.  Произвольные начис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начисления сумм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начисления процен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начисления по среднему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364000" y="1989000"/>
            <a:ext cx="3522960" cy="240840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4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58920" y="404640"/>
            <a:ext cx="742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сновные функци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Зарплата-К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3048120"/>
            <a:ext cx="3657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182880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4. Начисления по больничным лист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91440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62252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4176720" cy="3200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5640" y="494172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3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числение отпускны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84360" y="1916280"/>
            <a:ext cx="3657600" cy="28796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4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55280" y="1844280"/>
            <a:ext cx="3352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5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Начисление п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5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исполнительным листам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5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6. Перерасчет начислений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5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7. Начисление сверхурочных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5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5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5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404640"/>
            <a:ext cx="742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сновные функци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Зарплата-К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048120"/>
            <a:ext cx="3657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4495680"/>
            <a:ext cx="4267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8. Начисление прем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9. Начисление северных и райо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Режимы предназначены для про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расчетов сумм премий в процентном отношении от базовой сум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91440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62252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3810240" cy="2678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3933720" cy="26845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4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295280" y="1752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30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Расчет  Единого Социального налога  и отчислен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в Пенсионный фон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2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2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404640"/>
            <a:ext cx="742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сновные функци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Зарплата-К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3048120"/>
            <a:ext cx="3657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91440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2362320"/>
            <a:ext cx="2819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рмирование и печать отче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реестр отчислений по сотрудника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еестр отчислений  по отдел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сводная карточк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С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реестр отчислений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нды по ВК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62252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5029200" cy="2700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371600" y="4114800"/>
            <a:ext cx="4572000" cy="199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4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295280" y="1752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Расчет налога на доходы физических ли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1258920" y="404640"/>
            <a:ext cx="742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сновные функци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Зарплата-К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3048120"/>
            <a:ext cx="3657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91440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236232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5257800"/>
            <a:ext cx="86868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 сформированном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тчете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тражаются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данны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относящиеся к расчету НДФЛ за весь расчетный год: суммы полученных доходов работника,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назначенных вычетов, налога на доходы физ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ческого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лица, а также итоговые суммы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расчет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Расчет скидок и вычетов производится пропорционально начисленным сумм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057400"/>
            <a:ext cx="396252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грузке отчета в файл реализов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на заполнение реквизи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Формирование отче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Справка о доход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ах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физического лиц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Реестр сведений о доходах физических ли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62252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4572000" cy="2819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167440" y="3657600"/>
            <a:ext cx="3824280" cy="17953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4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295280" y="1752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Договора гражданско-правового характе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404640"/>
            <a:ext cx="742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сновные функци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Зарплата-К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91120" y="3048120"/>
            <a:ext cx="3657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91440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2590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4648320"/>
            <a:ext cx="5029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азначен для учета договоров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ных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анизацией с работникам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я платежной ведомости на выдачу заработной платы, аванса, межрасчетных выплат по договорам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о-право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го характер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62252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3733560" cy="2547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952880" y="2133720"/>
            <a:ext cx="3662640" cy="2333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486400" y="3886200"/>
            <a:ext cx="3429000" cy="20001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5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5:57:26Z</dcterms:created>
  <dc:creator>olga</dc:creator>
  <dc:description/>
  <dc:language>en-US</dc:language>
  <cp:lastModifiedBy>Света</cp:lastModifiedBy>
  <dcterms:modified xsi:type="dcterms:W3CDTF">2005-11-07T07:31:22Z</dcterms:modified>
  <cp:revision>233</cp:revision>
  <dc:subject/>
  <dc:title>КЕЙСИСТЕМС</dc:title>
</cp:coreProperties>
</file>