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click.wav" ContentType="audio/x-wav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2.png" ContentType="image/png"/>
  <Override PartName="/ppt/media/image37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14B1-0C64-44E5-8828-6E5315CB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520" y="396216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1721-B448-4294-81D7-D310757D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4560" y="129528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9621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4560" y="39621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C50D-E271-429F-8CAB-37111C91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360" y="129528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0560" y="129528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520" y="39621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360" y="39621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0560" y="39621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9F33-5D47-4743-A427-2F064744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6D77-BDC2-4702-BC15-F751BC0D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C4BA-8928-418B-94D0-CA5F8FD3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72E3-254D-4E7D-9ADC-ACB5E190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27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4560" y="1295280"/>
            <a:ext cx="4127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0C30-BE70-4593-8F57-72668B1C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4D81-A4DF-4D0F-80B4-EC73AD02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4731-A0B5-4DB6-9603-5A5A4183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1295280"/>
            <a:ext cx="4127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39621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D9C9-F010-4155-8064-2B3B2CDE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B355-CB8E-4F05-B099-929CE4F4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27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4560" y="129528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4560" y="39621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26C2-DE84-4C29-AE9E-6666E80F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4560" y="129528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396216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3EB2-25E9-4B5B-BEC8-265B9080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520" y="396216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ECF3-7C50-4078-8ED1-C56C2503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4560" y="129528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9621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4560" y="39621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BCD6-E811-4F57-904A-4FD61171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0360" y="129528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0560" y="129528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520" y="39621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0360" y="39621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0560" y="39621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3E97-035E-4F06-A04A-85599924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D0AF-7A81-4C22-BBA6-62376754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27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4560" y="1295280"/>
            <a:ext cx="4127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31F5-9039-4508-97E9-EAE874B4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4DE1-44B6-4EC2-A780-2202ED25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EAFA-D95F-48A2-8185-A2D99C32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4560" y="1295280"/>
            <a:ext cx="4127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520" y="39621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73CD-CF19-4AEB-90EE-2ECB3408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27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4560" y="129528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4560" y="39621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5904-3D1C-49CF-BDA2-A6F9A726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4560" y="129528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520" y="396216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9E60-7EB9-480F-9570-3F222073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477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47676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7676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177F-4C22-4E80-B322-9442579C39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1211400"/>
            <a:ext cx="8458200" cy="792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0166-3354-41CB-A88C-07C79A6228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audio" Target="../media/click.wav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audio" Target="../media/click.wav"/><Relationship Id="rId1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523880" y="2971440"/>
            <a:ext cx="701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Программные продукты для финансовых органов и бюджетных учрежден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835200"/>
            <a:ext cx="7338960" cy="928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5800" y="2438280"/>
            <a:ext cx="807732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3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5726160" y="382680"/>
            <a:ext cx="3093480" cy="524880"/>
            <a:chOff x="5726160" y="382680"/>
            <a:chExt cx="3093480" cy="524880"/>
          </a:xfrm>
        </p:grpSpPr>
        <p:sp>
          <p:nvSpPr>
            <p:cNvPr id="206" name=""/>
            <p:cNvSpPr/>
            <p:nvPr/>
          </p:nvSpPr>
          <p:spPr>
            <a:xfrm>
              <a:off x="5758560" y="39744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Verdana"/>
                </a:rPr>
                <a:t>Смета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26160" y="38268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Verdana"/>
                </a:rPr>
                <a:t>Смета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80880" y="915840"/>
            <a:ext cx="7423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</a:rPr>
              <a:t>УЧЕТ ФИНАНСОВЫХ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371600"/>
            <a:ext cx="188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вансовые отч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80880" y="1620720"/>
            <a:ext cx="2438640" cy="16891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124080" y="1676520"/>
            <a:ext cx="4010040" cy="14684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200400" y="13716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естр авансовых отч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3200400" y="3581280"/>
            <a:ext cx="3200400" cy="24876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279600" y="335268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ормирование, изме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62920" y="1676520"/>
            <a:ext cx="1981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разрез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получе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израсходова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ток/перерас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23623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3146400"/>
            <a:ext cx="38088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3124080"/>
            <a:ext cx="38124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4495680"/>
            <a:ext cx="2057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втоматическое определение показа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дыдущий аван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таток/перерас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95480" y="46483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6934320" y="3429000"/>
            <a:ext cx="192852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6933600" y="316692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чатная фор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72428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6" name="click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5726160" y="382680"/>
            <a:ext cx="3093480" cy="524880"/>
            <a:chOff x="5726160" y="382680"/>
            <a:chExt cx="3093480" cy="524880"/>
          </a:xfrm>
        </p:grpSpPr>
        <p:sp>
          <p:nvSpPr>
            <p:cNvPr id="225" name=""/>
            <p:cNvSpPr/>
            <p:nvPr/>
          </p:nvSpPr>
          <p:spPr>
            <a:xfrm>
              <a:off x="5758560" y="39744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Verdana"/>
                </a:rPr>
                <a:t>Смета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26160" y="38268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Verdana"/>
                </a:rPr>
                <a:t>Смета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80880" y="914400"/>
            <a:ext cx="7423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</a:rPr>
              <a:t>САНКЦИОНИРОВАНИЕ РАС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2419560" cy="37339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3200400" y="1752480"/>
            <a:ext cx="2971800" cy="18860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202200" y="1347840"/>
            <a:ext cx="297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водное уведомление о бюдже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ссигн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6400800" y="1905120"/>
            <a:ext cx="2370240" cy="13413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488280" y="1306440"/>
            <a:ext cx="2361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ведомления о бюджетных ассигнования для подведомств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6576840" y="2189160"/>
            <a:ext cx="2370240" cy="1341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6773760" y="2514600"/>
            <a:ext cx="2370240" cy="13413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172200" y="266688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3276720" y="4038480"/>
            <a:ext cx="2514600" cy="23986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190320" y="3648240"/>
            <a:ext cx="366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водное уведомление о лимитах бюдже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яза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8"/>
          <a:stretch/>
        </p:blipFill>
        <p:spPr>
          <a:xfrm>
            <a:off x="6629400" y="4267080"/>
            <a:ext cx="1905120" cy="18176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9"/>
          <a:stretch/>
        </p:blipFill>
        <p:spPr>
          <a:xfrm>
            <a:off x="6858000" y="4419720"/>
            <a:ext cx="1905120" cy="1817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0"/>
          <a:stretch/>
        </p:blipFill>
        <p:spPr>
          <a:xfrm>
            <a:off x="7128000" y="4560840"/>
            <a:ext cx="1904760" cy="1817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5943600" y="502920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629400" y="3809880"/>
            <a:ext cx="236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ведомления о лимитах бюджетных обяза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1" name="click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5726160" y="382680"/>
            <a:ext cx="3093480" cy="524880"/>
            <a:chOff x="5726160" y="382680"/>
            <a:chExt cx="3093480" cy="524880"/>
          </a:xfrm>
        </p:grpSpPr>
        <p:sp>
          <p:nvSpPr>
            <p:cNvPr id="244" name=""/>
            <p:cNvSpPr/>
            <p:nvPr/>
          </p:nvSpPr>
          <p:spPr>
            <a:xfrm>
              <a:off x="5758560" y="39744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Verdana"/>
                </a:rPr>
                <a:t>Смета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26160" y="38268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Verdana"/>
                </a:rPr>
                <a:t>Смета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80880" y="914400"/>
            <a:ext cx="7423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</a:rPr>
              <a:t>ОТ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2438280" cy="13446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5029200" y="1447920"/>
            <a:ext cx="3870360" cy="15602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5029200" y="3276720"/>
            <a:ext cx="3878280" cy="7635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380880" y="3733920"/>
            <a:ext cx="3826080" cy="26128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5029200" y="4343400"/>
            <a:ext cx="3878280" cy="18795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81600" y="1295280"/>
            <a:ext cx="210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Ы В СМЕТА-К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23880" y="160020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руппы отч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18288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335268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10552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362320" y="3276720"/>
            <a:ext cx="38088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29560" y="1219320"/>
            <a:ext cx="205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тандартные отч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27400" y="304812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ы по кас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27400" y="411480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ы по расчет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6920" y="3505320"/>
            <a:ext cx="352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ы по материальным ценност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7" name="click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666880" y="2500200"/>
            <a:ext cx="365760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726160" y="382680"/>
            <a:ext cx="3093480" cy="524880"/>
            <a:chOff x="5726160" y="382680"/>
            <a:chExt cx="3093480" cy="524880"/>
          </a:xfrm>
        </p:grpSpPr>
        <p:sp>
          <p:nvSpPr>
            <p:cNvPr id="264" name=""/>
            <p:cNvSpPr/>
            <p:nvPr/>
          </p:nvSpPr>
          <p:spPr>
            <a:xfrm>
              <a:off x="5758560" y="39744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Verdana"/>
                </a:rPr>
                <a:t>Смета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26160" y="38268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Verdana"/>
                </a:rPr>
                <a:t>Смета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80880" y="914400"/>
            <a:ext cx="7423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</a:rPr>
              <a:t>ОТЧЕ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295280"/>
            <a:ext cx="261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Ы ПО ПРИКАЗУ №5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457200" y="1585800"/>
            <a:ext cx="2476440" cy="594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3429000" y="1585800"/>
            <a:ext cx="2674800" cy="5875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270" name=""/>
          <p:cNvSpPr/>
          <p:nvPr/>
        </p:nvSpPr>
        <p:spPr>
          <a:xfrm>
            <a:off x="2971800" y="16621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2959200" y="2728800"/>
            <a:ext cx="3771720" cy="25639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419720" y="227160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15200" y="3110040"/>
            <a:ext cx="1600200" cy="121896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ЧАТ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ОР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0" y="356724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90720" y="3657600"/>
            <a:ext cx="1447560" cy="76212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Электро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орм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3124080"/>
            <a:ext cx="163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Экспорт/Импо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5"/>
          <a:stretch/>
        </p:blipFill>
        <p:spPr>
          <a:xfrm>
            <a:off x="7543800" y="5257800"/>
            <a:ext cx="351000" cy="9302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662960" y="5257800"/>
            <a:ext cx="144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001000" y="432900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3886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05320" y="5791320"/>
            <a:ext cx="167616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5334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95480" y="5867280"/>
            <a:ext cx="304920" cy="304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5638680"/>
            <a:ext cx="1447560" cy="76212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Электро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орм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867280" y="5410080"/>
            <a:ext cx="1219320" cy="106704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ВОД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34120" y="586728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40600" y="57913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6" name="click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82760" y="2068560"/>
            <a:ext cx="4089240" cy="3841560"/>
          </a:xfrm>
          <a:prstGeom prst="can">
            <a:avLst>
              <a:gd name="adj" fmla="val 1917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666880" y="2666880"/>
            <a:ext cx="365760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66680" y="295920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726160" y="382680"/>
            <a:ext cx="3093480" cy="524880"/>
            <a:chOff x="5726160" y="382680"/>
            <a:chExt cx="3093480" cy="524880"/>
          </a:xfrm>
        </p:grpSpPr>
        <p:sp>
          <p:nvSpPr>
            <p:cNvPr id="292" name=""/>
            <p:cNvSpPr/>
            <p:nvPr/>
          </p:nvSpPr>
          <p:spPr>
            <a:xfrm>
              <a:off x="5758560" y="39744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Verdana"/>
                </a:rPr>
                <a:t>Смета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26160" y="38268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Verdana"/>
                </a:rPr>
                <a:t>Смета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80880" y="914400"/>
            <a:ext cx="7423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</a:rPr>
              <a:t>ИНТЕГ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98640" y="3825720"/>
            <a:ext cx="774720" cy="1087560"/>
          </a:xfrm>
          <a:prstGeom prst="foldedCorner">
            <a:avLst>
              <a:gd name="adj" fmla="val 21666"/>
            </a:avLst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46000" y="3978360"/>
            <a:ext cx="774720" cy="1087200"/>
          </a:xfrm>
          <a:prstGeom prst="foldedCorner">
            <a:avLst>
              <a:gd name="adj" fmla="val 22083"/>
            </a:avLst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93720" y="4130640"/>
            <a:ext cx="774720" cy="1087560"/>
          </a:xfrm>
          <a:prstGeom prst="foldedCorner">
            <a:avLst>
              <a:gd name="adj" fmla="val 21666"/>
            </a:avLst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92160" y="3363840"/>
            <a:ext cx="2590920" cy="2438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e5e71"/>
              </a:gs>
              <a:gs pos="100000">
                <a:srgbClr val="cecef6"/>
              </a:gs>
            </a:gsLst>
            <a:lin ang="135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2411280" y="3987720"/>
            <a:ext cx="1524240" cy="3650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2411280" y="5068800"/>
            <a:ext cx="1524240" cy="3351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2409840" y="4710240"/>
            <a:ext cx="1523880" cy="3412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2411280" y="4373640"/>
            <a:ext cx="1524240" cy="3333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6"/>
          <a:stretch/>
        </p:blipFill>
        <p:spPr>
          <a:xfrm>
            <a:off x="2411280" y="5408640"/>
            <a:ext cx="1524240" cy="3348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304" name=""/>
          <p:cNvSpPr/>
          <p:nvPr/>
        </p:nvSpPr>
        <p:spPr>
          <a:xfrm>
            <a:off x="2503440" y="35164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дсисте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1905120"/>
            <a:ext cx="4419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бота в едином плане счетов (приказ №70н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щие справочник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днократный ввод первичных документов (например, платежные поручени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ямой обмен информацией, исключающий  сложности электронного обмен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ямое взаимодействие между РБС, ПБ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бор сводной отчетности по любым показателя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держка финансового планирования, анализа и контрол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373760" y="217656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«Бюджет-К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6560" y="1600200"/>
            <a:ext cx="40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Единая информационная среда Бюджет-К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7" name="click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5726160" y="382680"/>
            <a:ext cx="3093480" cy="524880"/>
            <a:chOff x="5726160" y="382680"/>
            <a:chExt cx="3093480" cy="524880"/>
          </a:xfrm>
        </p:grpSpPr>
        <p:sp>
          <p:nvSpPr>
            <p:cNvPr id="309" name=""/>
            <p:cNvSpPr/>
            <p:nvPr/>
          </p:nvSpPr>
          <p:spPr>
            <a:xfrm>
              <a:off x="5758560" y="39744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Verdana"/>
                </a:rPr>
                <a:t>Смета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726160" y="38268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Verdana"/>
                </a:rPr>
                <a:t>Смета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80880" y="914400"/>
            <a:ext cx="44197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</a:rPr>
              <a:t>АРХИТЕКТУРА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971800" y="1981080"/>
            <a:ext cx="2666880" cy="2901960"/>
          </a:xfrm>
          <a:prstGeom prst="can">
            <a:avLst>
              <a:gd name="adj" fmla="val 19175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83440" y="1981080"/>
            <a:ext cx="14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аз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09480" y="2063880"/>
            <a:ext cx="838440" cy="769320"/>
            <a:chOff x="609480" y="2063880"/>
            <a:chExt cx="838440" cy="769320"/>
          </a:xfrm>
        </p:grpSpPr>
        <p:sp>
          <p:nvSpPr>
            <p:cNvPr id="315" name=""/>
            <p:cNvSpPr/>
            <p:nvPr/>
          </p:nvSpPr>
          <p:spPr>
            <a:xfrm>
              <a:off x="609480" y="2063880"/>
              <a:ext cx="8384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5800" y="2139840"/>
              <a:ext cx="685800" cy="4568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60400" y="2673360"/>
              <a:ext cx="380880" cy="7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7360" y="2759040"/>
              <a:ext cx="757080" cy="7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09480" y="3054240"/>
            <a:ext cx="838440" cy="770040"/>
            <a:chOff x="609480" y="3054240"/>
            <a:chExt cx="838440" cy="770040"/>
          </a:xfrm>
        </p:grpSpPr>
        <p:sp>
          <p:nvSpPr>
            <p:cNvPr id="320" name=""/>
            <p:cNvSpPr/>
            <p:nvPr/>
          </p:nvSpPr>
          <p:spPr>
            <a:xfrm>
              <a:off x="609480" y="3054240"/>
              <a:ext cx="83844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5800" y="3130560"/>
              <a:ext cx="685800" cy="4572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0400" y="3664080"/>
              <a:ext cx="38088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7360" y="3749760"/>
              <a:ext cx="757080" cy="7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09480" y="4273560"/>
            <a:ext cx="838440" cy="770040"/>
            <a:chOff x="609480" y="4273560"/>
            <a:chExt cx="838440" cy="770040"/>
          </a:xfrm>
        </p:grpSpPr>
        <p:sp>
          <p:nvSpPr>
            <p:cNvPr id="325" name=""/>
            <p:cNvSpPr/>
            <p:nvPr/>
          </p:nvSpPr>
          <p:spPr>
            <a:xfrm>
              <a:off x="609480" y="4273560"/>
              <a:ext cx="83844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5800" y="4349880"/>
              <a:ext cx="685800" cy="4572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60400" y="4883400"/>
              <a:ext cx="38088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57360" y="4969080"/>
              <a:ext cx="757080" cy="7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773280" y="363204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1360" y="1803240"/>
            <a:ext cx="144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льзователь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9920" y="2792520"/>
            <a:ext cx="144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льзователь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41800" y="4022640"/>
            <a:ext cx="148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льзователь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47920" y="2362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447920" y="4572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514600" y="3885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14600" y="3886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2895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3429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2819520"/>
            <a:ext cx="152424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ибкое разграничение прав досту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стройка рабочих пери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715000" y="266688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6316560" y="2374920"/>
            <a:ext cx="2643120" cy="15289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6253560" y="1905120"/>
            <a:ext cx="198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Регистрация дейст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льзова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733920" y="5029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19720" y="4995720"/>
            <a:ext cx="457200" cy="381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048120" y="5486400"/>
            <a:ext cx="259056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зервное копир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восстано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3" name="click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350040" y="5522760"/>
            <a:ext cx="2313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726160" y="382680"/>
            <a:ext cx="3093480" cy="524880"/>
            <a:chOff x="5726160" y="382680"/>
            <a:chExt cx="3093480" cy="524880"/>
          </a:xfrm>
        </p:grpSpPr>
        <p:sp>
          <p:nvSpPr>
            <p:cNvPr id="349" name=""/>
            <p:cNvSpPr/>
            <p:nvPr/>
          </p:nvSpPr>
          <p:spPr>
            <a:xfrm>
              <a:off x="5758560" y="39744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Verdana"/>
                </a:rPr>
                <a:t>Смета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26160" y="38268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Verdana"/>
                </a:rPr>
                <a:t>Смета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2286000" y="1905120"/>
            <a:ext cx="4572000" cy="34002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380880" y="914400"/>
            <a:ext cx="29718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</a:rPr>
              <a:t>РЕКВИЗ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3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Смета-КС</a:t>
            </a:r>
            <a:br>
              <a:rPr sz="4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система «Бюджет-КС» для автоматизации административно-хозяйственной деятельности бюджетных учреждений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части исполнения сметы расход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7560" y="2895120"/>
            <a:ext cx="6553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систем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азначена для автоматизации ведения синтетического и аналитического уче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хгалтерского уче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олнения сметы расходов по новому плану счетов (приказ Минфина №70н)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438280"/>
            <a:ext cx="807732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2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5726160" y="382680"/>
            <a:ext cx="3093480" cy="524880"/>
            <a:chOff x="5726160" y="382680"/>
            <a:chExt cx="3093480" cy="524880"/>
          </a:xfrm>
        </p:grpSpPr>
        <p:sp>
          <p:nvSpPr>
            <p:cNvPr id="92" name=""/>
            <p:cNvSpPr/>
            <p:nvPr/>
          </p:nvSpPr>
          <p:spPr>
            <a:xfrm>
              <a:off x="5758560" y="39744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Verdana"/>
                </a:rPr>
                <a:t>Смета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26160" y="38268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Verdana"/>
                </a:rPr>
                <a:t>Смета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ормирование документов и хозяйственных  операций с помощью нового плана счето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чет основных средств, материалов. Обработк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чет и печать первичных бухгалтерских документо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по учету нефинансовых активо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работк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чет и печать первичных бухгалтерских документо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по учету финансовых операц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чет обязательст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ормирование финансового результа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чет лимитов бюджетных обязательств и объемов финансирова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ормирование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ечать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регистров бухгалтерского уче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лучение отчетности по приказу №5н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заимодействие в единой информационной среде «Бюджет-КС»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ногопользовательская  работа с гибким разграничением прав доступ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лный набор инструментов по обслуживанию базы данных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915840"/>
            <a:ext cx="7423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</a:rPr>
              <a:t>ВОЗМОЖНОСТИ ПОД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3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12193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огласно Инструкции по бюджетному учету №70Н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726160" y="382680"/>
            <a:ext cx="3093480" cy="524880"/>
            <a:chOff x="5726160" y="382680"/>
            <a:chExt cx="3093480" cy="524880"/>
          </a:xfrm>
        </p:grpSpPr>
        <p:sp>
          <p:nvSpPr>
            <p:cNvPr id="98" name=""/>
            <p:cNvSpPr/>
            <p:nvPr/>
          </p:nvSpPr>
          <p:spPr>
            <a:xfrm>
              <a:off x="5758560" y="39744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Verdana"/>
                </a:rPr>
                <a:t>Смета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26160" y="38268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Verdana"/>
                </a:rPr>
                <a:t>Смета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80880" y="915840"/>
            <a:ext cx="7423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</a:rPr>
              <a:t>ПЛАН СЧ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166920" cy="4648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800600" y="1600200"/>
            <a:ext cx="4038480" cy="3068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703680" y="28954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59040" y="3276720"/>
            <a:ext cx="1219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строй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ип сальд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ип Б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журн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С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остав анали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5105520"/>
            <a:ext cx="213336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ЗД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ИПОВЫХ ОПЕР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5118120"/>
            <a:ext cx="213336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ЗД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ХОЗ. ОПЕР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47242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05720" y="4691160"/>
            <a:ext cx="38088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52578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4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5726160" y="382680"/>
            <a:ext cx="3093480" cy="524880"/>
            <a:chOff x="5726160" y="382680"/>
            <a:chExt cx="3093480" cy="524880"/>
          </a:xfrm>
        </p:grpSpPr>
        <p:sp>
          <p:nvSpPr>
            <p:cNvPr id="111" name=""/>
            <p:cNvSpPr/>
            <p:nvPr/>
          </p:nvSpPr>
          <p:spPr>
            <a:xfrm>
              <a:off x="5758560" y="39744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Verdana"/>
                </a:rPr>
                <a:t>Смета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26160" y="38268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Verdana"/>
                </a:rPr>
                <a:t>Смета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80880" y="915840"/>
            <a:ext cx="54864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</a:rPr>
              <a:t>СПРАВОЧНИКИ И КЛАССИФИКА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219320"/>
            <a:ext cx="487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ногие атрибуты документов, операций заполняются на основании справочник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 классификат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286000"/>
            <a:ext cx="190512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ПРАВОЧ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7720" y="3287880"/>
            <a:ext cx="190512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ЛАССИФИКАТО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733920" y="2362320"/>
            <a:ext cx="2582640" cy="1914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657600" y="205740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вод документа, оп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27432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37339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61240" y="2286000"/>
            <a:ext cx="11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ыбор и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правоч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37920" y="3276720"/>
            <a:ext cx="140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ыбор и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лассификат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2666880"/>
            <a:ext cx="1905120" cy="838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ВО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 КЛАВИА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2971800"/>
            <a:ext cx="533520" cy="380880"/>
          </a:xfrm>
          <a:prstGeom prst="leftArrow">
            <a:avLst>
              <a:gd name="adj1" fmla="val 50000"/>
              <a:gd name="adj2" fmla="val 35019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419720"/>
            <a:ext cx="44956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еимущества использов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корость создания докумен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нозначн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диновременный ввод необходимых знач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зможность получение достоверных отче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мпорт/экспорт классификато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ибкая система поиска знач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ногие классификаторы поставляются заполненны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3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867280" y="281952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726160" y="382680"/>
            <a:ext cx="3093480" cy="524880"/>
            <a:chOff x="5726160" y="382680"/>
            <a:chExt cx="3093480" cy="524880"/>
          </a:xfrm>
        </p:grpSpPr>
        <p:sp>
          <p:nvSpPr>
            <p:cNvPr id="128" name=""/>
            <p:cNvSpPr/>
            <p:nvPr/>
          </p:nvSpPr>
          <p:spPr>
            <a:xfrm>
              <a:off x="5758560" y="39744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Verdana"/>
                </a:rPr>
                <a:t>Смета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26160" y="38268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Verdana"/>
                </a:rPr>
                <a:t>Смета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80880" y="915840"/>
            <a:ext cx="7423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</a:rPr>
              <a:t>УЧЕТ ОСНОВНЫХ СРЕДСТВ,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4343400" cy="3380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04920" y="190512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ртотека материальных цен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876920" y="1523880"/>
            <a:ext cx="3992400" cy="29005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191120" y="3886200"/>
            <a:ext cx="990360" cy="380880"/>
          </a:xfrm>
          <a:prstGeom prst="rightArrow">
            <a:avLst>
              <a:gd name="adj1" fmla="val 50000"/>
              <a:gd name="adj2" fmla="val 6500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4572000"/>
            <a:ext cx="3657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сновные с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ополните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настройка амортизации и переоце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краткая характерис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рагоценные метал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ис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аналитические призна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76920" y="121932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рточка материального объ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4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867280" y="281952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726160" y="382680"/>
            <a:ext cx="3093480" cy="524880"/>
            <a:chOff x="5726160" y="382680"/>
            <a:chExt cx="3093480" cy="524880"/>
          </a:xfrm>
        </p:grpSpPr>
        <p:sp>
          <p:nvSpPr>
            <p:cNvPr id="139" name=""/>
            <p:cNvSpPr/>
            <p:nvPr/>
          </p:nvSpPr>
          <p:spPr>
            <a:xfrm>
              <a:off x="5758560" y="39744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Verdana"/>
                </a:rPr>
                <a:t>Смета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26160" y="38268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Verdana"/>
                </a:rPr>
                <a:t>Смета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80880" y="915840"/>
            <a:ext cx="7423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</a:rPr>
              <a:t>УЧЕТ ОСНОВНЫХ СРЕДСТВ,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30500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ВИЧНЫЕ ДОКУМЕ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2604960" cy="26668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85800" y="4952880"/>
            <a:ext cx="1600200" cy="121932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ЧАТ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ОР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44956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095880" y="1600200"/>
            <a:ext cx="2649600" cy="4503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019920" y="1295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2666880" y="2457360"/>
            <a:ext cx="3581640" cy="1997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352680" y="1771560"/>
            <a:ext cx="35053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ОЗ. ОП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типовых опер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формирование опера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3352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32004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3352680" y="4890960"/>
            <a:ext cx="2598840" cy="1609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352680" y="45720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СТАТ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44197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6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867280" y="281952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726160" y="382680"/>
            <a:ext cx="3093480" cy="524880"/>
            <a:chOff x="5726160" y="382680"/>
            <a:chExt cx="3093480" cy="524880"/>
          </a:xfrm>
        </p:grpSpPr>
        <p:sp>
          <p:nvSpPr>
            <p:cNvPr id="157" name=""/>
            <p:cNvSpPr/>
            <p:nvPr/>
          </p:nvSpPr>
          <p:spPr>
            <a:xfrm>
              <a:off x="5758560" y="39744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Verdana"/>
                </a:rPr>
                <a:t>Смета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26160" y="38268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Verdana"/>
                </a:rPr>
                <a:t>Смета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80880" y="915840"/>
            <a:ext cx="7423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</a:rPr>
              <a:t>УЧЕТ ФИНАНСОВЫХ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9400" y="1371600"/>
            <a:ext cx="21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латежные пор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70000" y="1676520"/>
            <a:ext cx="2361960" cy="1323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581280" y="3962520"/>
            <a:ext cx="2392560" cy="1912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665440" y="22860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49800" y="3657600"/>
            <a:ext cx="25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ормирование, измен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629400" y="4114800"/>
            <a:ext cx="2155680" cy="194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6095880" y="472428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05000" y="373392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чатная фор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4419720"/>
            <a:ext cx="1447920" cy="76176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Электро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орм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3122640" y="1676520"/>
            <a:ext cx="3006720" cy="1793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195720" y="1371600"/>
            <a:ext cx="283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естр платежных поруч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6551640" y="1676520"/>
            <a:ext cx="2370240" cy="20016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550560" y="1405080"/>
            <a:ext cx="194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стройка форм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70760" y="198108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0760" y="2590920"/>
            <a:ext cx="304560" cy="3045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7400" y="373392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ыгруз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6880" y="4724280"/>
            <a:ext cx="304920" cy="304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3505320"/>
            <a:ext cx="38124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76920" y="3505320"/>
            <a:ext cx="38088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7" name="click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5726160" y="382680"/>
            <a:ext cx="3093480" cy="524880"/>
            <a:chOff x="5726160" y="382680"/>
            <a:chExt cx="3093480" cy="524880"/>
          </a:xfrm>
        </p:grpSpPr>
        <p:sp>
          <p:nvSpPr>
            <p:cNvPr id="180" name=""/>
            <p:cNvSpPr/>
            <p:nvPr/>
          </p:nvSpPr>
          <p:spPr>
            <a:xfrm>
              <a:off x="5758560" y="39744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Verdana"/>
                </a:rPr>
                <a:t>Смета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26160" y="38268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Verdana"/>
                </a:rPr>
                <a:t>Смета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79080" y="1371600"/>
            <a:ext cx="209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ссовые докуме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2362320" cy="1468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0880" y="915840"/>
            <a:ext cx="7423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</a:rPr>
              <a:t>УЧЕТ ФИНАНСОВЫХ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3048120" y="1752480"/>
            <a:ext cx="2590560" cy="1386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3505320" y="2057400"/>
            <a:ext cx="2590560" cy="15177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123360" y="1447920"/>
            <a:ext cx="18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естры ПКО, Р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3581280" y="4114800"/>
            <a:ext cx="2200320" cy="1728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506760" y="388764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ормирование, изме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3657600"/>
            <a:ext cx="38088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23623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57880" y="2743200"/>
            <a:ext cx="304920" cy="304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22860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6324480" y="3962520"/>
            <a:ext cx="2598840" cy="200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6797520" y="1828800"/>
            <a:ext cx="2041560" cy="14256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728400" y="1523880"/>
            <a:ext cx="194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стройка форм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02000" y="3659040"/>
            <a:ext cx="38124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48006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23760" y="365760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чатная фор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380880" y="3678120"/>
            <a:ext cx="2667240" cy="1602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523880" y="3200400"/>
            <a:ext cx="38124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9440" y="342900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ссовая кни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5334120"/>
            <a:ext cx="38124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5715000"/>
            <a:ext cx="1295280" cy="60948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чат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ор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9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5:57:26Z</dcterms:created>
  <dc:creator>olga</dc:creator>
  <dc:description/>
  <dc:language>en-US</dc:language>
  <cp:lastModifiedBy>Семенов Олег Станиславович</cp:lastModifiedBy>
  <dcterms:modified xsi:type="dcterms:W3CDTF">2005-11-10T08:47:17Z</dcterms:modified>
  <cp:revision>269</cp:revision>
  <dc:subject/>
  <dc:title>КЕЙСИСТЕМС</dc:title>
</cp:coreProperties>
</file>