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7.png" ContentType="image/png"/>
  <Override PartName="/ppt/media/click.wav" ContentType="audio/x-wav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22C-36EF-455B-9FB2-E49CD644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9621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484-3706-4C79-8F0F-1A14E008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3BB-EA66-41A3-B693-C83DFA4F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2F6-5388-4E5F-B834-FE54000E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B4F9-7182-4A2D-A3FB-68B46227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906B-3268-4687-B21B-8EE87779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A6A6-BB75-4A7B-8480-AACF68F5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E898-077E-41BE-ABF6-2594BAB0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C06B-D885-4549-8074-1D22D5DC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7D37-F640-4503-BB7A-759D828D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8EDF-8241-4CE8-A19C-05F7A42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EFE-A504-4496-86E3-14ECBAB6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456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BB01-814F-41C0-9BA8-0A3DEAC3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2D63-0B1C-4739-87AF-33921AF7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9621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2B17-5CED-4614-80C4-7FD52BF3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456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6931-6CBA-4895-9A27-9B7F0998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36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0560" y="12952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036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0560" y="39621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816F-D9F6-42B9-B2BF-C6F8E54D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098-BBA4-46FF-993E-EC4F5B52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6AA-DD71-4B80-BDB2-CD8C87A4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772-F2A7-4E6C-A839-201154C7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A38-7431-4846-92CB-39806BF7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82C-D37D-4444-BB31-AB46AAC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9621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F72-1B5D-409E-B3DA-D73BEF51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2952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C0B-F544-4E28-A675-E7DCA135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47676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E61A-1A25-4299-87B7-55E48DF223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1211400"/>
            <a:ext cx="8458200" cy="792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7CCE-CA7F-4D59-A44C-6B6919554D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880" y="2971440"/>
            <a:ext cx="701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Программные продукты для финансовых органов и бюджетных учрежде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835200"/>
            <a:ext cx="7338960" cy="928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3200" y="2446200"/>
            <a:ext cx="807696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440" y="54860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6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Расчет стажа производится  на основе настройки входимости в стаж и сведений о предыдущих местах работ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75248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грамме предусмотрено  исчисление стажа, а также запись информации о стаже в личную карточк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4343400" cy="3630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9480" y="3200400"/>
            <a:ext cx="36576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52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РАСЧЕТ СТА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4" name="click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1920" y="4350960"/>
            <a:ext cx="3962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523880"/>
            <a:ext cx="31244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69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Формирование, корректировка и печать табелей отработанного времени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9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9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Настройка различных графиков работ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2590920" cy="2065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505320" y="1530360"/>
            <a:ext cx="5162400" cy="371160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60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ТАБЕЛЬ УЧЕТА РАБОЧ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4" name="click.wav"/>
      </p:stSnd>
    </p:sndAc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1920" y="4495320"/>
            <a:ext cx="3962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438280"/>
            <a:ext cx="31244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67652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1600" indent="6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Унифицированные           формы (Т-1, Т-2, Т-3, Т-5, Т-6, Т-8, Т-9) в том числе и группов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661000" y="1447920"/>
            <a:ext cx="3114720" cy="3276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33520" y="1600200"/>
            <a:ext cx="2001600" cy="2895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2133720" y="2819520"/>
            <a:ext cx="4068720" cy="314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70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УНИФИЦИРОВАН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5" name="click.wav"/>
      </p:stSnd>
    </p:sndAc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4648320"/>
            <a:ext cx="3962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438280"/>
            <a:ext cx="31244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523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рова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х 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льных отчет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готовых отчетны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3962520"/>
            <a:ext cx="327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01600" indent="6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12408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343400" y="3581280"/>
            <a:ext cx="4648320" cy="23274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80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ОТ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4" name="click.wav"/>
      </p:stSnd>
    </p:sndAc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350040" y="5522760"/>
            <a:ext cx="231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39528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86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РЕКВИ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Кадры-КС</a:t>
            </a:r>
            <a:br>
              <a:rPr sz="4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система «Бюджет-КС» для автоматизации административно-хозяйственной деятельности бюджетных учрежд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722808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1240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систем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а для автоматизации процессов учета, обработки, обобщения, анализа и контроля данных кадрового учета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280" y="2446200"/>
            <a:ext cx="807696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ведение систематизированного перечня структурных подразделений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ввод и редактирование штатного распис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автоматизация работы по приему, увольнению и переводу работников на другую рабо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отслеживание сведений по отпускам, командировкам, больничным лист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расчет стажа на основе ранее введенной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формирование, обработка и печать различных приказов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формирование табеля учета рабочего времен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формирование унифицированной документации и отчет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94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ВОЗМОЖНОСТИ ПОД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0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98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4343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90520" indent="57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Ведение систематизированного перечня структурных подразделений учрежд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0520" indent="57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Учет истории подразде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5105520"/>
            <a:ext cx="4419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6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971800"/>
            <a:ext cx="4343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6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4376520" cy="1938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СТРУКТУРА ПОДРАЗД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4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5920" indent="2822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В программе предусмотрена возможность создания, изменения, просмотра и печать штатного распис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5920" indent="2822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Учет истории штатного распис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33520" y="2209680"/>
            <a:ext cx="7848360" cy="3505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038480" y="3581280"/>
            <a:ext cx="4496040" cy="24386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10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ШТАТНОЕ РАСПИС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6" name="click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Автоматизация  учета  кадр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952880"/>
            <a:ext cx="2667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Прием на раб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Пере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Уволь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09480" y="1752480"/>
            <a:ext cx="7696440" cy="3083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124080" y="2438280"/>
            <a:ext cx="4810320" cy="32752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18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УЧЕТ СОТРУ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7" name="click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4723920"/>
            <a:ext cx="3962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81520" indent="43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Century Gothic"/>
              <a:buChar char="•"/>
              <a:tabLst>
                <a:tab algn="l" pos="577800"/>
                <a:tab algn="l" pos="66996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Все приказы выводятся на печать в унифицированных формах   первичной учетной           документац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1520" indent="43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Century Gothic"/>
              <a:buChar char="•"/>
              <a:tabLst>
                <a:tab algn="l" pos="577800"/>
                <a:tab algn="l" pos="66996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Создание групповых приказ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7800"/>
                <a:tab algn="l" pos="66996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7800"/>
                <a:tab algn="l" pos="66996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1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7800"/>
                <a:tab algn="l" pos="66996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82880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219320"/>
            <a:ext cx="4375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ормирование  приказ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276720" cy="2881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62520" y="2133720"/>
            <a:ext cx="3890880" cy="2919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00600" y="3581280"/>
            <a:ext cx="3962520" cy="269424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28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ПРИК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5" name="click.wav"/>
      </p:stSnd>
    </p:sndAc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нение статуса приказо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82880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28600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69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ект – действия предусмотренные в приказе не влияют на оперативные 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твержденный – применение действий предусмотренных в прика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мененный – отмена действий предусмотренных в прика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657600" y="1905120"/>
            <a:ext cx="5133960" cy="358128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36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ПРИК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lick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3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ет листков нетрудо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30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стройка причин нетрудо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3915000" cy="2705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14800" cy="1904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3876480" cy="21286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5726160" y="382680"/>
            <a:ext cx="3093480" cy="524880"/>
            <a:chOff x="5726160" y="382680"/>
            <a:chExt cx="3093480" cy="524880"/>
          </a:xfrm>
        </p:grpSpPr>
        <p:sp>
          <p:nvSpPr>
            <p:cNvPr id="144" name=""/>
            <p:cNvSpPr/>
            <p:nvPr/>
          </p:nvSpPr>
          <p:spPr>
            <a:xfrm>
              <a:off x="5758560" y="39744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26160" y="382680"/>
              <a:ext cx="306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</a:rPr>
                <a:t>Кадры-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80880" y="915840"/>
            <a:ext cx="7423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</a:rPr>
              <a:t>БОЛЬНИЧНЫЕ ЛИС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5" name="click.wav"/>
      </p:stSnd>
    </p:sndAc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5:57:26Z</dcterms:created>
  <dc:creator>olga</dc:creator>
  <dc:description/>
  <dc:language>en-US</dc:language>
  <cp:lastModifiedBy>Семенов Олег Станиславович</cp:lastModifiedBy>
  <dcterms:modified xsi:type="dcterms:W3CDTF">2005-11-08T07:49:22Z</dcterms:modified>
  <cp:revision>244</cp:revision>
  <dc:subject/>
  <dc:title>КЕЙСИСТЕМС</dc:title>
</cp:coreProperties>
</file>