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7.png" ContentType="image/png"/>
  <Override PartName="/ppt/media/click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BA8-EE38-45B7-8B12-8B47D0E8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8E3-569C-4BB1-B727-CC24AEF7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772-2491-45E4-AED0-FE52CE7C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99A-4FB6-454C-A785-BCEAF9F1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17D-7233-4DF8-8252-86F5F862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8000-A9ED-436C-ADAA-0A4F7EA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4DCC-7B89-47FE-AAC4-92E3B972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8AD3-882F-4981-96ED-F7364DEE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0489-324E-4779-8654-4CFFEEF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637B-0B33-435F-B305-82C836FD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D442-205C-45B8-A803-858F4B70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0B8-B952-41E3-B8F8-012E37DD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2F1C-724C-4272-B472-001BFBD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5185-1D47-4311-9D02-35843F3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306E-6497-4791-B63D-7BAC2EF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2A9-473A-41DE-9FCA-0BA67BB7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A249-8193-4591-9FE8-959DED4C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31C-7ED9-47B4-AED3-C7140964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750-4EDE-47FE-ABDD-CED1123E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615-47F7-46D3-A710-3024FCF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56E-D879-48A4-B416-05680483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5BD-C15B-4E0B-A1D7-75A9F3DF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398-E821-46D0-884D-AA698C27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9D7-39E2-496F-B7F4-E40A335F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3B70-854F-4728-A526-F7DF22C8A1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9717-DB77-49C0-A700-05B1B6354D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701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Программные продукты для финансовых органов и бюджетных учрежд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835200"/>
            <a:ext cx="7338960" cy="928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2438280"/>
            <a:ext cx="807696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75248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ранение файлов документа на серв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6858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3024000" cy="268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3240000" cy="2390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3241800" cy="2325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16360" y="4651200"/>
            <a:ext cx="38163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ение файлов документа на сервере с поддержкой контроля  версий открывает возможность свободного перемещения электронных документов по маршру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5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6765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лектронно-цифровая подп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84720" y="2060640"/>
            <a:ext cx="4249800" cy="658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724360" y="2781360"/>
            <a:ext cx="1800360" cy="920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11280" y="2060640"/>
            <a:ext cx="3419280" cy="3062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692360" y="2997360"/>
            <a:ext cx="2587680" cy="295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84920" y="4075200"/>
            <a:ext cx="159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933720"/>
            <a:ext cx="3951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онно-цифровая подпись удостоверяет автора события, а также гарантирует, что реквизиты события не будут подмен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6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6765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84920" y="4075200"/>
            <a:ext cx="1590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5157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матизация переноса документов, полученных по электронной почте, в систему делопроизводства (и наоборот) является неотъемлемой составной ча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313080" cy="2163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76360" y="2492280"/>
            <a:ext cx="3168720" cy="2546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3478320" cy="360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5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Реквиз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350040" y="5522760"/>
            <a:ext cx="231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484360" y="2276640"/>
            <a:ext cx="4751640" cy="3527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ДЕЛО-КС</a:t>
            </a:r>
            <a:br>
              <a:rPr sz="4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система «Бюджет-КС» для автоматизации административно-хозяйственной деятельности бюджетных учрежд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3047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истема предназначена для автоматизации процессов оперативного обеспечения руководителе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ециалистов полной и достоверной информацией о составе  контролируемых документов (заданий, решений, поручений), анализа состояния их исполнения, предупредительного контроля и систематизации исполнительской дисциплин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43828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47360" y="1825200"/>
            <a:ext cx="80010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Учет входящих, исходящих, внутренних документов, писем и обращений гражда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Фильтрация и поиск документов по их реквизита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ередача документов на ознакомление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ередача документов на исполнение и постановка на контроль (поручения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езолюции)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ередача документов на утверждение (виз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Наглядное отображение маршрута движения документа, ведение журнала событ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Контроль исполнения поручений по входящим и внутренним документам, а также обращениям и жалобам гражда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Формирование и печать журналов регистрации документов, справок об исполнении и напоминаний по неисполненным документа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оздание документов на основе типовых шаблонов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хранение файлов документа на сервере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 поддержкой контроля верс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Авторизация и контроль целостности журнала событий средствами электронно-цифровой подпис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риём и отправка документов по электронной почт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828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туитивно понятный и удобный интерфей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050920" y="2205000"/>
            <a:ext cx="5042160" cy="3824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18288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дение учета входящих, исходящих и внутренни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исем и обращений граж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362320"/>
            <a:ext cx="2743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визиты доку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ходя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рреспонд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омер и д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р и дата пор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рок, отметка об исполн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дтверждение  и дата   ис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с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сходя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р и 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едения о визиров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ата отпра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635280" y="2486160"/>
            <a:ext cx="3529080" cy="32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3456000" cy="3176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6765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ильтрация и поиск документов по их реквизи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4319640" cy="2745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3960720" cy="31305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52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урнал регистрации входящих док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2349360"/>
            <a:ext cx="381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а позволяет настроить вид журнала регистр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кументов по рабочему периоду, включенным полям, произвести сортировку и построение в порядке возрастания или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384360" cy="2287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7921440" cy="1511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55627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1828800"/>
            <a:ext cx="59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роль исполнения док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4267080"/>
            <a:ext cx="3467160" cy="1797480"/>
            <a:chOff x="457200" y="4267080"/>
            <a:chExt cx="3467160" cy="1797480"/>
          </a:xfrm>
        </p:grpSpPr>
        <p:sp>
          <p:nvSpPr>
            <p:cNvPr id="119" name=""/>
            <p:cNvSpPr/>
            <p:nvPr/>
          </p:nvSpPr>
          <p:spPr>
            <a:xfrm>
              <a:off x="457200" y="42670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4267080"/>
              <a:ext cx="34671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нтролю подлежа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се доступные пользователю документы выбранного типа за указанный период на предмет выявления неисполненных документов и поручени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059280" cy="1820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24360" y="2276640"/>
            <a:ext cx="4537080" cy="243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284720" y="3716280"/>
            <a:ext cx="4319640" cy="22827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5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58920" y="404640"/>
            <a:ext cx="742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сновные функци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Дело-К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844640"/>
            <a:ext cx="68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втоматизация работы по созданию док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6858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11280" y="5300640"/>
            <a:ext cx="7467120" cy="789120"/>
            <a:chOff x="611280" y="5300640"/>
            <a:chExt cx="7467120" cy="789120"/>
          </a:xfrm>
        </p:grpSpPr>
        <p:sp>
          <p:nvSpPr>
            <p:cNvPr id="129" name=""/>
            <p:cNvSpPr/>
            <p:nvPr/>
          </p:nvSpPr>
          <p:spPr>
            <a:xfrm>
              <a:off x="611280" y="530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11280" y="5300640"/>
              <a:ext cx="7467120" cy="789120"/>
              <a:chOff x="611280" y="5300640"/>
              <a:chExt cx="7467120" cy="789120"/>
            </a:xfrm>
          </p:grpSpPr>
          <p:sp>
            <p:nvSpPr>
              <p:cNvPr id="131" name=""/>
              <p:cNvSpPr/>
              <p:nvPr/>
            </p:nvSpPr>
            <p:spPr>
              <a:xfrm>
                <a:off x="611280" y="5300640"/>
                <a:ext cx="7032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Формирование документов по типовым шаблонам позволяет ускорить процесс создания документов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11280" y="5676120"/>
                <a:ext cx="7467120" cy="413640"/>
                <a:chOff x="611280" y="5676120"/>
                <a:chExt cx="7467120" cy="413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11280" y="5676120"/>
                  <a:ext cx="434520" cy="15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   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045800" y="5676120"/>
                  <a:ext cx="7032600" cy="15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11280" y="5826600"/>
                  <a:ext cx="43452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   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045800" y="5826600"/>
                  <a:ext cx="7032600" cy="26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"/>
          <p:cNvSpPr/>
          <p:nvPr/>
        </p:nvSpPr>
        <p:spPr>
          <a:xfrm>
            <a:off x="609480" y="1622520"/>
            <a:ext cx="8077320" cy="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313080" cy="2747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5:57:26Z</dcterms:created>
  <dc:creator>olga</dc:creator>
  <dc:description/>
  <dc:language>en-US</dc:language>
  <cp:lastModifiedBy>Your User Name</cp:lastModifiedBy>
  <dcterms:modified xsi:type="dcterms:W3CDTF">2005-11-07T09:41:53Z</dcterms:modified>
  <cp:revision>275</cp:revision>
  <dc:subject/>
  <dc:title>КЕЙСИСТЕМС</dc:title>
</cp:coreProperties>
</file>